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553-0377-49E0-9776-8E0C795E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4A9-1B2B-45F3-8A08-5F01E6E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395B5-D5C9-409D-B0CE-3CCAA67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19E57-A506-40B7-AD35-0FBBFEB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0E9F9-DAC1-474E-BA7E-6EF5F46D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203A2-AB10-4C9F-8777-2AA79C0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F6585-F0A8-43B6-93EF-AD8433E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50958-0109-4251-9F65-75EF8FAB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BFC0-CCFB-4085-91D6-0EA5560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AFF08-24B8-47B7-83EB-37BA4F4B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6C486-DBD8-4435-A1B9-F31F6766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9B62-F989-4C1B-A7D0-ED30F17B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ECB-A9D7-4F14-A9ED-B4A03E11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4F0ED-3EA9-48D3-B390-01AB4F4D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D0492-335F-49FD-A471-8145FF6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6D43D-633B-40A5-B7D1-B1C3C2F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09B4B-9B04-47B7-8F97-7C05928C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CA846-DDC8-4576-8612-9794C042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836A9-2699-44AC-8ADA-92F7BCA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8CBA-88F0-4D64-89BA-462D4519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02BAE-182A-4A0E-908A-4956795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9F953-CD5E-433E-B856-04BCC45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14EDF-C8BA-49B8-8E73-CB307569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30A-2349-4416-854F-4D5DBA32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6DF4-A4D5-4CAE-A312-C1F89649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88875-7748-4EAD-ABB7-F5FB8987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6360D-A22C-47D3-ADE1-AFA8066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6304-2174-4404-8488-AA0B415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FD8AE-EA3E-4CB0-B548-45391FB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B4C6-06B4-439B-A4EA-CF7770E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1E330-BA7B-4357-B63C-31FFA645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3B236-E3D0-4238-9D83-F1F43C6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EEB97-6346-4588-9372-CC3B56A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A218-3C34-4C8C-8153-A725C7F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BADC-2347-40D8-A2EF-E411D34C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72D81-06A8-4A0D-B390-77D1303C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7A1C-C44A-45D3-8E44-AEC0FEFC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A0BA-0A84-48C9-BBBA-22C0129D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BC533-B799-458E-8AB8-75B7F558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33D37-DF53-4074-93AF-DB5D4D2F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109B0-CAE9-43D1-A1F1-E770427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2C00A-3153-458C-A75A-ACBB451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1BAE4-8C35-4DA0-8D18-54FBDC5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8F411-F12D-4280-AC73-D093D128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68077-FBFF-41C3-82BD-DEF627D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D831-1900-4ED5-A7CA-85EFCB7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01AE8-54C8-4737-8AAE-31191F2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1E2D6-1A35-4988-9688-DDFFC534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D8FFD-8489-4B15-A5FB-EFF5370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A20EC-896E-4607-A9CF-3CE0754D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DC08E-9854-4F48-B525-3F96C975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4DEF-9D6F-472B-B871-B6DC43A8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279C-5899-4A19-9CE0-8573DB5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84DA-0273-43EE-BE99-0CBC1F2E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6DE4-0A02-4E36-B0B6-2EEB5AC0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615C-E4F7-4F7B-BED6-20493C7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89F-5EA7-42E2-9A26-950A1B9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D7E-73F9-449C-862F-D6060EC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FEFC-1329-42D4-A416-D2BAEE5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C150-E3CA-46EF-89AC-874A3A3D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B2C0-AD18-4CC2-97B5-2AFDA6C7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D19F-8C3B-4DD7-85CA-711E0E35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1B8F-89AD-4F61-B4DD-76AC706F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CCF4-E9D2-4428-9309-4F6B4634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236B-761F-4358-93FD-8EEC9A1C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5E93-E93B-458B-B706-0A95D04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C583-453F-4290-84C9-AC5DC6E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754-B174-4F91-9AFA-7C7E6515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F805-48D3-4CFC-8CB0-9E86F4C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5279-78EC-477C-8C2D-310BA9A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1275-C09C-4677-8FCC-8EFC560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4BEC-541A-4763-A58A-0CAEEE96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4440-A2C0-4574-A688-E1910DE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C580-B7FB-41A1-AE74-2117A54A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C0CE-DAC6-4892-A083-55CCE7F8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3B5B-2125-4CED-9443-58DFDC03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F483-5566-42B1-BB2A-AF72EAE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AF53-B9C2-4BE2-9453-E3F48E8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1CC-10D4-4F4C-8F0B-D8B6A930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FD68-8C44-4983-AF3B-C81FF131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FC09-8EA6-424B-8CA6-311749DF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C8DF-C3C7-488C-99E1-93B6591B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87F0-C3E4-4A45-A814-2E5D178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5675-9015-4515-8F13-5FC7D6D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09809-651E-4B34-A920-37EE1909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4844-34AA-4FA0-A3CF-C93A64B5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4E3C-EC96-4E6A-A567-B2304B60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FDD6-70CE-4AB4-9B8B-64ED9E0E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70C2-F453-4503-861A-9A3162AA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EB6-38FB-4D90-8522-0B0FE430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0CFF-9B97-4D4D-A9CF-EDA9499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DCD9-AD03-4054-8FEA-602BB001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E6154-C2FC-4161-AB96-A3E7DDEE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7603-F27F-48C2-937B-367B8E7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4285-FC07-4ED6-8A69-2D58617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FECA-0921-4A0A-A1ED-C43F434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53A7-8F47-45BD-A4FD-76307B4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9039-69C8-450F-B03F-704879A2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A8DD-4B56-4177-AFAF-C25FA2C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11567-02D7-4F32-BD6F-349110E4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A70-B5FC-4D16-A9B3-680C9E8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79D6-EFDB-48AC-AF27-7DD41384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70A6-4921-4AAE-BCC0-E5B3910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F2B4-81BA-4870-8DFF-6CC7EFEC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C038-EDB5-45CD-8DC0-37DCB1E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52CB-4B86-4BF9-A54B-07A50D9C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F517-E454-4D2F-8DD8-442A81B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876F-516D-4CE8-950A-ABF46794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DEAD-0259-4291-AD0D-C1B6742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4A68-6137-4115-8072-292482A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C2A3-BEE5-48E8-80F4-6A20AC2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668-D32F-4E52-964B-1090ADD2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77AD4-81C3-402C-BB2B-EC9F8E09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44EB-D9E5-4CA6-9397-74544C52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AE7A6-1086-4669-B9A1-C36DA742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853C-F567-4663-A023-8992C343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FF18-93ED-4AB1-9B99-E1012484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2DBC4-91E9-4216-B011-3C74DC69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E2F81-488D-4C5A-A148-3400BE4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6658-620A-4776-BAE1-F45D6DE9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4776-95CE-4FD2-B497-5C8B63B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1216C-0042-461B-82A9-21C2715A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AB9-4B26-44B6-AE3D-35D6B91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E1492-65BB-4451-B91B-29EEC71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937A-77A3-4B37-944E-70F25AD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DFB83-560E-4B50-8729-B11490B9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CDEB-9D9E-4D28-BA08-2C27622B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B2403-3AE8-46CC-BDB7-1A570295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A92FB-4F47-4A17-8E38-A532911F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6E3E9-56AE-4739-A116-64596AA2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E868-3F38-4F79-B926-9B8254A8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E014C-4DE8-4982-A6B9-37BD85E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E7EF7-4856-4D57-BF21-BC2AEE46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9AE-395B-4095-99DE-4772975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3D38D-1AD6-4A22-B531-9DB68452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6DC3C-E90B-410C-84F3-95DE5E1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EE5CF-7F2A-4112-B540-E8ADA5D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23844-8B42-42C9-94DD-F9B3215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A34E-9F38-4846-8CF4-84A8A7B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0998-A8F2-4F6B-A2A6-F8031D07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48800-AC57-4420-8575-69860505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930B1-86FF-4FC7-9990-5EAF0A83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23811-5B9B-4B20-B726-3AC349A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B4828-9EDD-4C52-82CF-CDEA2A4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C4F-1246-4106-A7B8-8F432B6AE4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5A22-029F-4134-A19D-F503359357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4D1-C1C1-412A-ABEE-7F1DF46248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32B-7DAD-43D6-898F-280A8D63DD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837-B8B7-40D8-9990-59848CF724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9B3-7748-4836-BB7A-C62AC80EBC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1406-157D-4FAC-9EE8-98B0F62B44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0E5-321B-4ACD-B8BE-81A4AC1385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A16-AFB4-4B6A-B559-D0B2A0E93A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F0A5-0EA7-4306-BFE4-C80AE603DF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CD99-EF4E-436A-A39F-D53210734B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B4E-E848-4B6E-8D2C-B383349380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4 Pán je môj vod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Ó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chráň ma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do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k 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ýšinám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zácna zv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bezpečne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vies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ním nezablúdi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znám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ňa vedie k nemu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Ó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y veď ma sám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aj, nech na t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ovo dbám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elo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oc bránil b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mi celý sve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cestu razí Víťaz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 ním kráčam k novým víťazstv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: Ó, Pane môj, len ty ma ve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v noci temnej ty mi sv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 :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mám strac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, zástupca môj v nebesia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ujm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sa ma, za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ierou naň sa spoľ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54:20Z</dcterms:modified>
  <cp:revision>23</cp:revision>
  <dc:subject/>
  <dc:title>Je veľký náš Pán, on slávy je Kráľ Nech do všetkých strán  spev vrúcnych znie chvál.</dc:title>
</cp:coreProperties>
</file>